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7FB91D5-781D-4917-9CD7-1793E9AB32A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30241909-CF43-4BA7-8EB2-B504DF4F99A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3E0EF4E-5788-4FA9-BA6F-635D3BF88F9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695160" y="739800"/>
            <a:ext cx="5345280" cy="3701880"/>
          </a:xfrm>
          <a:prstGeom prst="rect">
            <a:avLst/>
          </a:prstGeom>
          <a:ln w="0">
            <a:noFill/>
          </a:ln>
        </p:spPr>
      </p:sp>
      <p:sp>
        <p:nvSpPr>
          <p:cNvPr id="323" name="PlaceHolder 2"/>
          <p:cNvSpPr>
            <a:spLocks noGrp="1"/>
          </p:cNvSpPr>
          <p:nvPr>
            <p:ph type="body"/>
          </p:nvPr>
        </p:nvSpPr>
        <p:spPr>
          <a:xfrm>
            <a:off x="672840" y="4687920"/>
            <a:ext cx="5389560" cy="44510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693720" y="739800"/>
            <a:ext cx="5346720" cy="3701880"/>
          </a:xfrm>
          <a:prstGeom prst="rect">
            <a:avLst/>
          </a:prstGeom>
          <a:ln w="0">
            <a:noFill/>
          </a:ln>
        </p:spPr>
      </p:sp>
      <p:sp>
        <p:nvSpPr>
          <p:cNvPr id="32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693720" y="739800"/>
            <a:ext cx="5346720" cy="3701880"/>
          </a:xfrm>
          <a:prstGeom prst="rect">
            <a:avLst/>
          </a:prstGeom>
          <a:ln w="0">
            <a:noFill/>
          </a:ln>
        </p:spPr>
      </p:sp>
      <p:sp>
        <p:nvSpPr>
          <p:cNvPr id="32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2678E03-24D9-41A1-BE6F-6D9F8A641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AD8A77-0E15-4C0F-BA88-4EDEBAC2AF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0F1D03-4427-4D97-8978-91B5679BB1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4053BE8-1D53-4007-A162-810E8AFCFB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9C7B3-EC2E-4998-A43A-ADB3159FF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39936-E3A7-428B-AC97-424C13E0F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C048E8-2D1B-4119-8DC2-EBC32DF7C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1C120-A118-4A78-853D-E0833232A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62C95-0DE5-4EF8-AAEC-5337D4995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6A605-5A2F-402B-9052-772F8EBA5B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83645-2142-4A79-9C77-7CB3AB4E3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925413-DADF-45CA-8B18-27EA52EF89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C06CF-D0B8-414C-A96C-4A36EE4D1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813D7F-EF21-4B8F-B1BB-D1C15280B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D8B19-AEC3-4180-A18F-11758861EA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3DDE24-3507-498E-B36B-1335E3EC7F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92113-E2F9-4D2B-991E-EF9558DD5B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1757F2-DDFB-4151-BA42-23569B7A9D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3A9702-630B-4367-823E-644D3E474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499350-7881-42BB-9657-AA7FD8CAD8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4EF14D-5BB7-4490-BCAA-761290CCC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5C7615-6D4C-453A-BD71-C308AFEDBA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4EC009-9204-4613-A27E-7D15C18B8E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AC1F12-278E-42BC-8792-A76EAE80EE2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70B0-9705-4D55-91A7-7F1F5FD6FB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5799-9EA6-47D2-B287-B2FF628CB1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921E3BD0-8E79-46E0-B259-7BD9F1D993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711F51F-098F-4F7C-B93C-4FAE2D786B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2D59162B-DE04-49E4-9DAD-3289FF922E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4FA07E96-68EA-4CE8-B2CE-9BE6E129F9C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D17AA21F-9DF5-4775-BE84-9CC8347564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B98C3417-3C1D-4AD0-BB7B-A10FF7AB65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5D2E4C9-A32E-4096-9A4B-530B698291CF}"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4FDE6DE-3C09-42E3-9E9F-462AD842E2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5ACA3E07-C8A8-4D32-B7D0-49270D1992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7FA3B84F-85A9-402B-822A-1040EFAB86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565CDEFC-F9EB-489A-9882-AEA534512A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 name=""/>
          <p:cNvGrpSpPr/>
          <p:nvPr/>
        </p:nvGrpSpPr>
        <p:grpSpPr>
          <a:xfrm>
            <a:off x="741240" y="2133720"/>
            <a:ext cx="8402760" cy="4084200"/>
            <a:chOff x="741240" y="2133720"/>
            <a:chExt cx="8402760" cy="4084200"/>
          </a:xfrm>
        </p:grpSpPr>
        <p:sp>
          <p:nvSpPr>
            <p:cNvPr id="153"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54"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55"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56"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57"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58"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59"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60"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61"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62"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63"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64"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65"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66"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67"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68"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69"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70"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71"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72"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73"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174"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175"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176"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177"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178"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179"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180"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82"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183"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184"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185"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186"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187"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188"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189"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190"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191"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1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196"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9DC6EB5-8A92-4B3E-8959-1E8A5D3D65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838080" y="1905120"/>
            <a:ext cx="7467840" cy="4303440"/>
          </a:xfrm>
          <a:prstGeom prst="rect">
            <a:avLst/>
          </a:prstGeom>
          <a:ln w="0">
            <a:noFill/>
          </a:ln>
        </p:spPr>
      </p:pic>
      <p:sp>
        <p:nvSpPr>
          <p:cNvPr id="198"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199"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01"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02"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03"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04"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06"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0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0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DC42789-AD1F-4F67-ABB0-345B590BBC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28600" y="2789280"/>
            <a:ext cx="4724280" cy="3373560"/>
          </a:xfrm>
          <a:prstGeom prst="rect">
            <a:avLst/>
          </a:prstGeom>
          <a:ln w="0">
            <a:noFill/>
          </a:ln>
        </p:spPr>
      </p:pic>
      <p:sp>
        <p:nvSpPr>
          <p:cNvPr id="215"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216"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217"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2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224"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23E8E87C-435D-42E8-B7A2-72B68EB1B4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227"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228"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229"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30"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34" name="" descr=""/>
          <p:cNvPicPr/>
          <p:nvPr/>
        </p:nvPicPr>
        <p:blipFill>
          <a:blip r:embed="rId1"/>
          <a:stretch/>
        </p:blipFill>
        <p:spPr>
          <a:xfrm>
            <a:off x="304920" y="2438280"/>
            <a:ext cx="4114800" cy="3826080"/>
          </a:xfrm>
          <a:prstGeom prst="rect">
            <a:avLst/>
          </a:prstGeom>
          <a:ln w="0">
            <a:noFill/>
          </a:ln>
        </p:spPr>
      </p:pic>
      <p:sp>
        <p:nvSpPr>
          <p:cNvPr id="235"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236"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237"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81F6D655-B63D-4EE8-87B8-F581961214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jore</cp:lastModifiedBy>
  <cp:lastPrinted>2004-08-09T23:39:53Z</cp:lastPrinted>
  <dcterms:modified xsi:type="dcterms:W3CDTF">2004-09-03T18:08:20Z</dcterms:modified>
  <cp:revision>268</cp:revision>
  <dc:subject/>
  <dc:title>Presentación de PowerPoint</dc:title>
</cp:coreProperties>
</file>