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BD6DD0C-6D28-411F-B084-817AB18FB2B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4988A44-989D-4A5A-98A2-D068B3A4A80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3176327-5105-4F63-AC38-258B6C63266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695160" y="739800"/>
            <a:ext cx="5345280" cy="3701880"/>
          </a:xfrm>
          <a:prstGeom prst="rect">
            <a:avLst/>
          </a:prstGeom>
          <a:ln w="0">
            <a:noFill/>
          </a:ln>
        </p:spPr>
      </p:sp>
      <p:sp>
        <p:nvSpPr>
          <p:cNvPr id="323" name="PlaceHolder 2"/>
          <p:cNvSpPr>
            <a:spLocks noGrp="1"/>
          </p:cNvSpPr>
          <p:nvPr>
            <p:ph type="body"/>
          </p:nvPr>
        </p:nvSpPr>
        <p:spPr>
          <a:xfrm>
            <a:off x="672840" y="4687920"/>
            <a:ext cx="5389560" cy="445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693720" y="739800"/>
            <a:ext cx="5346720" cy="3701880"/>
          </a:xfrm>
          <a:prstGeom prst="rect">
            <a:avLst/>
          </a:prstGeom>
          <a:ln w="0">
            <a:noFill/>
          </a:ln>
        </p:spPr>
      </p:sp>
      <p:sp>
        <p:nvSpPr>
          <p:cNvPr id="32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93720" y="739800"/>
            <a:ext cx="5346720" cy="3701880"/>
          </a:xfrm>
          <a:prstGeom prst="rect">
            <a:avLst/>
          </a:prstGeom>
          <a:ln w="0">
            <a:noFill/>
          </a:ln>
        </p:spPr>
      </p:sp>
      <p:sp>
        <p:nvSpPr>
          <p:cNvPr id="32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18133B-6C57-48B1-B246-4498C98A5B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1280C0-1626-4E8F-9952-021252F2EA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EF305C-C3C5-4DED-ABB7-CEAE4EFEE1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285348-D27E-4EA7-9321-2CFD8A99D4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2E5CA-D36A-48F5-BFE3-2086336643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2807C-477B-4C7D-996A-3AB686C4B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7951E-53A5-439A-9EAA-2BDA22F30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112F0-7EC6-4083-BFD8-DF7608F0F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BA4B6-FA45-4DE8-9687-59A352745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34D95-EB7E-493A-B9F5-7076C83D0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22F7F-E5DF-4CC8-BAC7-12883AC7F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AEC03F-3252-4B20-9B5E-B67612C543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FC4AA-54EE-443A-85FE-181698F39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847A0-FAFE-423C-8CCA-2C8A4AB69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B3302-44FF-4B23-8CC0-4976FFD18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C9D570-E6FF-43B9-9B38-9A35F6A510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72A4F6-6F57-436E-A0D5-999EF256B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756CBD-03BA-4700-B09F-39ABF6149D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F09723-822A-4233-ABBC-4F1918DF13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673D5D-1EFA-4E6E-8627-54CFFDFDC4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E9A13A-A282-456E-8FDF-FFED82F26D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7C1FFD-1089-43F8-B4CF-6447F7681F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B78837-ECFA-4D7C-AB59-6F744E99F7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D28563-7460-47E6-BFD6-ECAE5E3DAC1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5056-B17F-46DE-9DFA-393BE2CC84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CB994-AAA6-4BF0-B688-81857E8B42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170309F1-6B0F-4D68-8F5E-28A959130E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68554239-4A35-4F15-B6BE-2CB3C3A6E3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58423601-E7D0-4FF9-9EF1-AED30FF87D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A8AFEA63-FF49-4E70-B78B-E1AA5FD05A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3832BCF-2338-4B0A-A8F6-97323B3B97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C9D9C975-EBEF-46C6-BEB4-B613D63B0E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41849D92-508D-4CDA-9C5B-1AB48A1F347B}"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1F009067-7285-4CD5-BDBA-AED3A4C7C4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868C5A51-10B6-41E3-9B81-8C76672BEE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F473FF24-389F-442D-B1ED-62F7A15AEE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F7293EF5-09EE-4EB0-9037-B3454197C7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741240" y="2133720"/>
            <a:ext cx="8402760" cy="4084200"/>
            <a:chOff x="741240" y="2133720"/>
            <a:chExt cx="8402760" cy="4084200"/>
          </a:xfrm>
        </p:grpSpPr>
        <p:sp>
          <p:nvSpPr>
            <p:cNvPr id="153"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54"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55"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56"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57"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58"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59"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60"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61"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62"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63"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64"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65"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66"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67"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68"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69"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70"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71"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72"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73"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174"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175"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176"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177"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178"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179"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180"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2"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183"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184"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185"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186"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187"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188"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189"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190"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191"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1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196"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599A650-D36A-4043-91D4-6EB6633506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38080" y="1905120"/>
            <a:ext cx="7467840" cy="4303440"/>
          </a:xfrm>
          <a:prstGeom prst="rect">
            <a:avLst/>
          </a:prstGeom>
          <a:ln w="0">
            <a:noFill/>
          </a:ln>
        </p:spPr>
      </p:pic>
      <p:sp>
        <p:nvSpPr>
          <p:cNvPr id="198"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199"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01"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02"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03"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04"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06"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0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0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F41D01CC-8A20-48E2-BBB9-6FD2D489F9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28600" y="2789280"/>
            <a:ext cx="4724280" cy="3373560"/>
          </a:xfrm>
          <a:prstGeom prst="rect">
            <a:avLst/>
          </a:prstGeom>
          <a:ln w="0">
            <a:noFill/>
          </a:ln>
        </p:spPr>
      </p:pic>
      <p:sp>
        <p:nvSpPr>
          <p:cNvPr id="215"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216"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217"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2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224"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67BB3EFE-0313-4A50-B3EA-01AA6F81AB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227"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228"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229"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30"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4" name="" descr=""/>
          <p:cNvPicPr/>
          <p:nvPr/>
        </p:nvPicPr>
        <p:blipFill>
          <a:blip r:embed="rId1"/>
          <a:stretch/>
        </p:blipFill>
        <p:spPr>
          <a:xfrm>
            <a:off x="304920" y="2438280"/>
            <a:ext cx="4114800" cy="3826080"/>
          </a:xfrm>
          <a:prstGeom prst="rect">
            <a:avLst/>
          </a:prstGeom>
          <a:ln w="0">
            <a:noFill/>
          </a:ln>
        </p:spPr>
      </p:pic>
      <p:sp>
        <p:nvSpPr>
          <p:cNvPr id="235"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236"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237"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3B419A89-DD46-4B89-918E-ABEE8E2578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jore</cp:lastModifiedBy>
  <cp:lastPrinted>2004-08-09T23:39:53Z</cp:lastPrinted>
  <dcterms:modified xsi:type="dcterms:W3CDTF">2004-09-03T18:08:20Z</dcterms:modified>
  <cp:revision>268</cp:revision>
  <dc:subject/>
  <dc:title>Presentación de PowerPoint</dc:title>
</cp:coreProperties>
</file>